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E56-FA23-484E-A823-0DDBFD71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C98-0688-4884-9247-2256564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58C-0BC0-494B-A3A9-6FD87ABA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63D-D07B-425E-800C-7FDB52A6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7BC5-CE2D-4D76-A255-A80B603E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86A9-7B31-4F3A-A6CF-A5D061B3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AC9D-4BF8-449E-9D40-2AF33D7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6DD-8122-4FF6-8F05-BB20FF7E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C4A-1B40-4B2F-9E09-69ABD76B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8F33-D12A-4E93-BBBE-365B91E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AC2-EA7D-4B3E-A44A-C4995C6B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779-A554-4436-B85E-068F1BC7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781-4ED0-4723-B0E6-F3FFA98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89D-2FC0-4B61-8719-DC6184A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BB6-35D2-4B46-84CC-5A60C46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5A42-AF97-4A6C-A0A4-3EADF0CD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8A72-7709-4D64-ACA7-4FF6C271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F31-360F-47F7-A87C-63EC7B3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8FD-CAAA-4706-AE9D-E590D51C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00A-1C4A-4FF0-85CA-F6A9179B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E93-05D6-4833-AE23-4B7094D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503-EB60-4B0F-8FC9-D92366E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605-0481-445C-BE24-DB6C78E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2C3-ED3B-4A53-A40E-228661C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7AC6-73CA-415E-9E31-FBAA7D505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F9A-1E36-4871-8591-063CA46BE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obje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argumentar hay que saber presentar objeciones ante los argumentos de los demás, saber expresar nuestro desacuerdo y explicar por qu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Es una pena que no dejen ir a los perros a la mayoría de las playas. La gente que está de acuerdo cree que molestan y ensucian; pero no tienen en cuenta que hay personas que también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olestan, y mucho (gritan, ponen la radio a todo volumen, juegan a la pelota sin importarles si dan a alguien), y ensuciar no dig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Dar y escuchar opin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opiniones, o cuando escuchamos las de los demás, y cuando entramos en razonamientos, estamos argumen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cerlo nos aparecen diversas posibilidad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ómo expresarnos cuando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  que dice otra persona es cierto, pero no en su totalidad: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onces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corregir, concretar algo que hemos dich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rrección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ejemplific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destacar lo importa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énfa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estamos seguros de alg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hipótesi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emos que concretar la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alida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bemos indicar l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aus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nsecuenci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explicar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por qué no estamos de acuerd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once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concesión es un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ntraargumentación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siste en aceptar que una persona tiene razón en algún aspecto, pero se olvida de algo para nosotros fundamen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Aunque es cierto que .......  eso n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 verdad que ...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Hay que reconocer que tienen parte de razón,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toy de acuerdo con los que dicen que ..., sin embarg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Muchas personas dicen que ... pero no se dan cuenta de qu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orrección y ejempl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odemos corregir algo que hemos escrito justo antes, concretarlo, matizarlo y detallarlo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Los entrenadores de fútbol tienen que tener en cuenta muchas cosas;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mejor dicho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, mu-chísimas cosas 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[y damos una lista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Tienen que tener en cuenta muchas cosas,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por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ejemplo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El énfa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nuestro punto de vista sobre algo, tenemos que tener un enfoque personal. Damos importancia a ciertas cosas, y no se la damos a ot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A la hora 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hacer un ejercicio físico es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uy importante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cer ejercicios de calentamiento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Incluso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y estudios que demuestran qu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sta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ien es muy listo se equivoca a vec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hipóte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a suposición nos permite dar razones, pues nos apoyamos en los efectos previstos, y podemos tener en cuenta si son 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2696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upongamos que todos hiciéramos lo que nos diera la gana. ¿Que ocurriría? Pues que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eso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fina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chas veces hacemos cosas teniendo en cuenta un fin, por ello, cuando argumentamos, podemos relacionar ideas con los fines que nos propon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27000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Si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eremos q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ya un mejor clima en clas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observa que estamos planteando una condición, y una finalidad en la que todos estamos de acuerdo]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ntonces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consecuencia]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todos deberíamos poner algo de nuestra part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ausa y la consecuen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blar de una causa, el nexo más usual es la conjunción "porque“, pero hay otras posibilidades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ya que, dado que, pues, puesto que, visto qu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consecuencias se relacionan con las causas; es como el reverso de una medalla. Los conectores que expresan consecuencia son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tanto, por ello, por eso, en consecu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16:08:15Z</dcterms:created>
  <dc:creator>Guillermo</dc:creator>
  <dc:description/>
  <dc:language>en-US</dc:language>
  <cp:lastModifiedBy>Guillermo</cp:lastModifiedBy>
  <dcterms:modified xsi:type="dcterms:W3CDTF">2014-07-19T13:06:36Z</dcterms:modified>
  <cp:revision>10</cp:revision>
  <dc:subject/>
  <dc:title>El texto argumentativo</dc:title>
</cp:coreProperties>
</file>